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A8C-B48A-4613-8CE1-CD86D1C8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A55A-9C9C-4A3C-B6D1-0C37A914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5AE-AD4B-41E2-8028-C50011A3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9E7-EA07-4CCE-87F6-ED9A1DEE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67BD-D42B-475B-83BD-CE464A8E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6883-4857-4F30-9447-06144F8B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195E-6C24-42BE-A6D4-F6897072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692C-DAF6-471E-A229-A62731E5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58A1-0244-4D42-8B9D-24F5CFFF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E220-ADFA-4839-BE9F-72CA291C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F953-BF4F-47C5-9ADA-6A40D44F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B85-C2AF-4114-802D-4726FFCF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9D06-426A-47B2-B14C-4FF5F269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845E-FBAF-4A70-B36F-D9F4ADE2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38DB-F463-4116-AD15-A55E6ADE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C99B-6BE8-486A-B41C-BFAC1782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1D45-69DD-4AA8-AA4A-6A4D9C4F9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D25-FB12-443A-9544-F3BD0D8E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A67-8A13-405D-9E79-336F8F43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F1A-785E-4BC1-9AA9-29C70B26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BDE-32DE-4239-8585-78B1FD5B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760E-B87F-495C-A27E-49472B35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33F-C2BA-48AC-BC27-013E6A99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C9D-A237-4E52-A482-9A399961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E8E0-DFD5-48FF-BE72-E3937A0A69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07A1-8E7D-418D-A703-A6D58621EB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1200" y="1666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38360" y="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3120" y="351936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Examp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5600" y="350532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Non-examp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60948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6440" y="623880"/>
            <a:ext cx="435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405288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3962520"/>
            <a:ext cx="441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71880" y="2514600"/>
            <a:ext cx="30240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1:50:39Z</dcterms:created>
  <dc:creator>000090hs</dc:creator>
  <dc:description/>
  <dc:language>en-US</dc:language>
  <cp:lastModifiedBy>000090hs</cp:lastModifiedBy>
  <dcterms:modified xsi:type="dcterms:W3CDTF">2010-01-25T15:09:54Z</dcterms:modified>
  <cp:revision>5</cp:revision>
  <dc:subject/>
  <dc:title>Slide 1</dc:title>
</cp:coreProperties>
</file>